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250-515D-48D8-BB4C-7821DD47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7B76-CC1F-4F95-89D9-95E2040F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9E22-F874-4E36-B3C3-DD21DC68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CADE-CCF7-4929-A6A9-C53BC57D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C187-4020-469D-B6FE-C09F2DE3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281-2056-4DFB-8819-1C19D673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4A78-ADEE-4350-89CC-A7293525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7644-5857-4EF7-92A1-27DC2C9A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59AF-6377-4AE0-BE18-C6227491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9187-7C48-4911-9AF4-A426F9B9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472A-5B21-4496-83D2-81346840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41B3-DC17-4A59-AA1C-F324A419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BCFA-BC90-480B-BA17-11749928F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GELS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00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5687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كلمة نع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 قدّام الله مزيّنة كلمة نعم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بخاتم ذهب وزهور ورفوف اليمام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   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نقولا سوا ونحب  (نعم)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  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تملا الدني ونحب  (نعم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نحنا ربيع العمر (نحنا) 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وحكاية غرام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15:40:18Z</dcterms:created>
  <dc:creator>USER</dc:creator>
  <dc:description/>
  <dc:language>en-US</dc:language>
  <cp:lastModifiedBy>USER</cp:lastModifiedBy>
  <dcterms:modified xsi:type="dcterms:W3CDTF">2003-02-13T15:40:43Z</dcterms:modified>
  <cp:revision>1</cp:revision>
  <dc:subject/>
  <dc:title>PowerPoint Presentation</dc:title>
</cp:coreProperties>
</file>